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D9A9-9B1F-4514-AB9D-3C1A32470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848-6860-4B73-AA26-3878918DC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B086-99E5-4CD0-B8D3-AEEDCB4A1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7C67-0598-4088-ADF8-A60A40EEE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72EC-D859-44BE-99B1-2F069C53A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5511-2680-47C7-8A56-3718F2245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4729-708C-4518-B241-18A4D87C7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2BE7-7EC3-4BC8-8B0A-F7A7D663A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DF7B-8813-4803-B7D7-A97D2FA8F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E7B4-0124-4B3D-B9C3-9994DE26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83CF-90B9-4930-8499-8D9D2C27A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6A7E-5422-4E73-BAB6-FECC80FA1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9295-232F-4485-A9BD-3CDBDDFD3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C583-E2C1-47D0-B5A2-62AF52C30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E295-F787-4F19-BE27-143BF8236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2138-FDF7-473B-990D-E237A6577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C396-A40B-410E-8AE2-29B8B091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F4AE-2799-4F4D-AB62-44D855A9E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BB4A-C644-4654-84D9-DE6B24E1F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52C-70FF-492B-9A56-D6883519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927-4EEC-4EEA-BED4-3D8926F2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AA1-E578-4573-A7CE-52ABFC68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F8F-2E4F-4C8C-9B05-B7811768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A94C-09A5-4686-B274-EC6F9489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6469-2C90-4FCF-A57E-0E6070E5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7DE8-FB20-408E-B0EE-2DC22AB5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354E-8D0B-4367-813C-FFE1E423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533C-91A2-4750-9986-D9C58D5E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4CC0-4D37-45ED-AA75-186475AA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924B-6470-42DF-BE95-2A750C2C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D00-B972-42B2-A471-012309A6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73B7-0127-4381-AF26-46560AC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3A7A-B29F-48BE-A435-E5A86AD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F5A2-AE48-4D13-8278-2A0F6465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53E4-E620-4E0E-BE65-42A95F10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688C-2144-424D-BE60-FA4407AC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5B8-5FCB-4C05-9AB0-5887771E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B1C-666E-4EA6-B905-51C03E01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0DC-4576-498C-996D-23FFC778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B81-2996-4925-A504-2BB7EE1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B0C-8F13-4E6E-A629-16D2E51B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CD1-B065-4E1C-8C9D-1BCC01B2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51F-9D6D-47CD-A623-115B9BDB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6B87-3AAF-45F5-9460-9D79A5C78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92DA-17F4-4C56-B2B3-390C4C97C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IPS FOR TEACHING LISTE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 A SHORT, WELL ORGANIZED LECTURE AND HAVE THE CLASS OUTLIN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QUESTION AND HAVE THE STUDENTS REPHRASE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ORAL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REPETITION OF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REC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STUDENTS SUMMARIZE TV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GOOD LISTENING HABITS ON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XONOMY OF DISCUSSION GROU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 PLA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QUIRY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ULES FOR BRAINSTORM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IDEAS ACKNOWL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RIT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 SHOULD BUILD ON ONE ANOTHER’S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 SHOULD SOLICIT IDEAS OR OPINIONS FORM SILENT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S LESS IMPORTANT THAN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ALS OF SIMUL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CHANGES IN STUDENTS’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CE SPECIFIC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PARTICIPANTS FOR ASSUMING NEW ROLES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INDIVIDUALS UNDERSTAND THEIR CURRENT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STUDENTS’ ABILITY TO APPLY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COMPLEX PROBLEMS OR SITUATIONS TO MANAGEABL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 ROLES THAT MAY AFFECT STUDENTS’ LIVES BUT THAT THEY MAY NEVER AS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E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NALYTICAL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ZE INDIVIDUALS TO OTHER PERSONS’ LIFE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 OF SIMUL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THE UNITED STATES AND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EGON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OCK-MARKET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ECTED TOPICS FOR INQUIRY GROU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COMMERCIALS FRAM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JOR ISSUES OR TOPICS OCCUPY HEADLI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FOOD IS CONSUMED OR WASTED IN THE SCHOOL LUNCH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SCHOOL INTERSECTIONS CARRY THE HEAVIEST TRAFF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MES ARE MOST REPEATED BY PERSONS SEEKING POLITICAL OFF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EATURES OF COOPERATIVE LEARNING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INTER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-TO-FACE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ACCOUN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SOCI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EYS TO COOPERATIVE LEAR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STUDENT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REQUIREMENTS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, COHESIVENESS, AND RESPONSIBILITY MUST BE PROMO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EY SOCIAL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BRAIN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 OPPORTUNITY TO PARTICIP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PROBLEMS COOPERA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ING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ING WHAT TO DO WHEN ONE GROUP MEMBER FAILS TO CON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ING HOW TO HANDLE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BULLETIN BOARD ON LISTEN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 A CLASS RECORDER ROTATE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 STUDENTS TO LISTEN FOR GRAMMATICAL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TUDENTS PARAPHRASE PREVIOUS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 OF LEARNING PROCESSES IN DISCU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ERGARTNERS HAVING A VERBAL SHAR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-GRADERS GROWING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-GRADERS MAKING A TI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-GRADE TEAMS BRAINSTORMING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HTH-GRADERS SETTING UP RECYCLING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H-GRADERS OBSERVING A COURT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ELFTH-GRADERS EXPLORING DIFFERENT WAYS TO APPLY MATH TO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PPLICATIONS FOR SMALL GROUP DISCU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ING STUDENTS’ INTEREST WHEN INTRODUCING A NEW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ING PROBLEMS OR ISSUES TO BE STUDIED OR ALTERNATIVE WAYS TO APPROACH A TOPIC ALREADY UNDER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ING NEW WAYS TO SOLV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DATA, OPINIONS, AND SOURCE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ING CONCEPTS FOR FUTUR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ING STUDENTS TO DEMONSTRATE INDIVIDUAL STR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AND IMPROVING LEADERSHIP, ORGANIZATION, AND RESEARCH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EAM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O DEFEND ONE’S IDEAS AND TO RESPECT THE VIEWPOINTS OF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O ACCEPT AND VALUE VARIOUS ETHNIC AND CULTURAL BACKGR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EPTS RELATED TO SMALL GROU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CTIONS OF THE DISCUSSION LEAD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EARNER BENEFITS FROM DISCU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 OF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AND 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ATTITUDES TOWARD LATER USE OF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-SOLV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CONCEPT AN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UMMARY OF DISCUSSION GROU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TIVE LEARNING CAN BE INITIA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HIEVING PROCESS OBJECTIVES REQUIRES ACTIVE STUDENT INVOLVEMENT AND INTERA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SCUSSION ARE HIGHLY INTERAC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SCUSSION CANNOT BE USED FOR ANY TOP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POSITIVE CLASSROOM ENVIRONMENT IS ESSENTIAL FOR COLLABORATIVE WOR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BODY IN A DISCUSSION GROUP IS ASSIGNED SOME RESPONSIBIL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6:10:18Z</dcterms:created>
  <dc:creator>AEURY</dc:creator>
  <dc:description/>
  <dc:language>en-US</dc:language>
  <cp:lastModifiedBy>User</cp:lastModifiedBy>
  <dcterms:modified xsi:type="dcterms:W3CDTF">2012-08-22T18:16:07Z</dcterms:modified>
  <cp:revision>5</cp:revision>
  <dc:subject/>
  <dc:title>TIPS FOR TEACHING LISTENING</dc:title>
</cp:coreProperties>
</file>